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BA58C-5834-49FB-8AF1-4C53D254F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21335-9A32-4CEE-A545-023E47348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BDFCD-D87B-4DC8-B45D-EFEAE6FAE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E22A8-5589-4DD1-9FA9-45744C0D3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CB6BA-1B65-40C9-8526-FA45CFD1E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DA24F-76F6-4D5D-86AF-1BD9C9A4C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DB2E3-05BF-4851-BC6B-959ABA9C6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5B0C9-907D-4D34-BE85-6BF65D6E1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A0740-3708-485F-A1F7-B2D6633BC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B0286-C2C7-4444-B3A8-937E358DE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733E8-CE24-4915-BC9D-3DF63D9F3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6FD07-DE79-45A6-BD21-8FCBEC83F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27125-05F9-40B0-B59E-B7148A979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DD37A-EC46-41DD-BC81-ECB4C687A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6753A-022F-43DA-90B7-2480DFE1F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A98C1-2F21-463D-8885-2EAD5FF64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D736C-90AB-44F7-BE8F-C65D5EAF4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171758-95A9-430D-86DA-2663844508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80C69-DB76-4C07-AB46-F5F623222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DD99CD-7090-45C9-BB82-6F7E882718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71A1A0-7306-4701-A057-F4B3BE00F0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C4646F-3C6D-44F8-81C5-6F3696CA55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D6999-0929-4F49-A1A2-223B7E663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38EE1A-B561-4B42-866D-69E50F60A3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37A275-4542-468E-8E6C-002A82E9D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7423E-CE93-41FB-9322-39F9952E0C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7CFE7C-77CF-4636-9E88-EEF35B339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29F3A3-715F-4F91-B5C7-283A8AEA94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46A31B-826B-424E-8C8B-CD95A3E719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C6E3E6-8A2F-48C4-ADF4-DF45BE43E7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92AF58-DB2F-413D-8E01-5E6CABED22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F20ECE-256A-4B4E-BF2F-300DCD788D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593DF3-3700-47D4-B3E5-92FCAD1365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43D21-9AA3-49B7-BAE7-9C83B6D93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C39641-7485-4FF0-8237-13ADC960B2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A2B5B-6634-476F-9ED5-94377823EA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C76DFC-458F-4CDD-81C5-3B3AE1F7E8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F57545-161B-4FAD-8287-3F02EA379C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FECE6-EF77-4C8F-926A-B477562B6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31EDF-1165-4653-BBF9-4F1FCD214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C77105-A61C-4628-A759-907875C72C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FB28CA-8663-4754-8827-5F56039904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112029-D67C-40E0-A120-550831B06B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CB35FC-AD50-4D27-AB67-1F8D30117E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78E15-E8F9-44EB-B355-9B1BDA6B1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4906F7-C9C6-4814-9705-5D5CDD0783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B9E0E-A34E-459B-8832-35D86D665C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9562A9-C164-4474-90AB-CF0FFEBE92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AF79E-B0B7-4BBA-B7C9-0094C4F4BC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6D9FC7-BB19-4C28-B683-35F330BD34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04889-BD52-44E2-B9C2-487C69D3E5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19A500-789D-4A6F-AEF8-3AD78C506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858A12-A289-4686-8C03-78B48ECCF2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A9D92A-88F2-4513-B59A-5B8B1B415E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181D8B-447D-4FEB-B5EB-113FBD5C6A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BAFCE-6957-4548-94E4-001F812FE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32C28A-E6DA-4AB0-BB0A-4AA83BEFFF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BC60EB-FD35-4EA9-ADCD-72FBE5F6D7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337BF2-6C08-40FF-BE9A-E43FBE33D3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E1CFE3-C84A-4C1C-B4F9-370D56C5C0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9E3411-0173-4DFE-9381-2E4EFC5358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1847C0-9F35-4998-A666-CA638FD784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9E5C8D-D66D-4D7A-947F-887FAB4307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199B3D-F670-48D1-92A9-FD16B26ECB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4D1F9F-3025-4FA7-9D8D-A396544122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11AE0-B222-4CDD-B020-198426398C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6B737-5253-4A4A-BBF7-4D9A3CFE9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71D0CA-35F2-4794-BF9E-5520248560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F7BABE-E327-4304-9CB5-11F9EF41D6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1A57E3-7A02-4243-ABE7-D874BB4BBE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7F27D-D4EA-49FA-876A-80A44CC5E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9E023-1EC8-49D0-B41E-CA553C074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E82E-4989-4D4E-8549-AD3F5502A0C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407C-D480-49D2-B8E4-A6DD3392964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E437-C585-45A3-9F74-53A6F8FD7D7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FAD5-6A06-490C-A4CF-0BEC8B87E0A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6D42-6515-4A0A-B801-6B7CC2C8B9E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D074-8B84-4623-95F5-680320DE1A0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272"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Chapter 3</a:t>
            </a:r>
            <a:br>
              <a:rPr sz="3600"/>
            </a:br>
            <a:r>
              <a:rPr b="0" lang="en-US" sz="3600" spc="-1" strike="noStrike">
                <a:solidFill>
                  <a:srgbClr val="ffffff"/>
                </a:solidFill>
                <a:latin typeface="Franklin Gothic Book"/>
              </a:rPr>
              <a:t>Changes in American Society: Their Influences on Today's Schools</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fferences</a:t>
            </a:r>
            <a:endParaRPr b="0" lang="en-US" sz="4000" spc="-1" strike="noStrike">
              <a:solidFill>
                <a:srgbClr val="696464"/>
              </a:solidFill>
              <a:latin typeface="Franklin Gothic Book"/>
            </a:endParaRPr>
          </a:p>
        </p:txBody>
      </p:sp>
      <p:sp>
        <p:nvSpPr>
          <p:cNvPr id="29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tuational Poverty</a:t>
            </a:r>
            <a:endParaRPr b="0" lang="en-US" sz="26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enerational Povert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idden Rules Among Classes</a:t>
            </a:r>
            <a:br>
              <a:rPr sz="4000"/>
            </a:br>
            <a:r>
              <a:rPr b="0" lang="en-US" sz="2400" spc="-1" strike="noStrike">
                <a:solidFill>
                  <a:srgbClr val="696464"/>
                </a:solidFill>
                <a:latin typeface="Franklin Gothic Book"/>
              </a:rPr>
              <a:t>Ruby Payne</a:t>
            </a:r>
            <a:endParaRPr b="0" lang="en-US" sz="2400" spc="-1" strike="noStrike">
              <a:solidFill>
                <a:srgbClr val="696464"/>
              </a:solidFill>
              <a:latin typeface="Franklin Gothic Book"/>
            </a:endParaRPr>
          </a:p>
        </p:txBody>
      </p:sp>
      <p:graphicFrame>
        <p:nvGraphicFramePr>
          <p:cNvPr id="293" name=""/>
          <p:cNvGraphicFramePr/>
          <p:nvPr/>
        </p:nvGraphicFramePr>
        <p:xfrm>
          <a:off x="457200" y="1531800"/>
          <a:ext cx="8229600" cy="4881600"/>
        </p:xfrm>
        <a:graphic>
          <a:graphicData uri="http://schemas.openxmlformats.org/drawingml/2006/table">
            <a:tbl>
              <a:tblPr/>
              <a:tblGrid>
                <a:gridCol w="1981080"/>
                <a:gridCol w="2133720"/>
                <a:gridCol w="2057400"/>
                <a:gridCol w="20574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Pover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Middle Cla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Wealt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Possess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Peo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hing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ea typeface="Arial"/>
                        </a:rPr>
                        <a:t>One-of a kinds, collectibles, legac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Mon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be used, sp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be manag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be conserved, invest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Personal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For entertainment, sense of humor valu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For stability, achievement and goals are valu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For connec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Social Emphas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nclusion of people he/she lik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Self-governance, self-sufficienc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Social exclu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Fo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Did you have enough?</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Quantity is focu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Did you like i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Quality is impor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Was it well presen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Presentation is foc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457200" y="990720"/>
          <a:ext cx="8229600" cy="5630760"/>
        </p:xfrm>
        <a:graphic>
          <a:graphicData uri="http://schemas.openxmlformats.org/drawingml/2006/table">
            <a:tbl>
              <a:tblPr/>
              <a:tblGrid>
                <a:gridCol w="2057400"/>
                <a:gridCol w="2057400"/>
                <a:gridCol w="2057400"/>
                <a:gridCol w="20574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Pover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Middle Cla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Wealt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Cloth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Valued for individual style and expres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Quality and label, acceptance of norm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Artistic sense, designer foc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Ti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Present is the most important; decisions made on feelings or surviv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Future is most important; decisions made with thought about fu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raditions and history are important. Decisions made on tradition and decorum.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Educ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Valued as an abstract, not a rea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Crucial for success and making mone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Necessary tradition for making and maintaining connec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Destin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Believes in fate, cannot do much about ch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Believes in choice; can change future through good choices no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a:t>
                      </a:r>
                      <a:r>
                        <a:rPr b="0" lang="en-US" sz="1800" spc="-1" strike="noStrike">
                          <a:solidFill>
                            <a:srgbClr val="000000"/>
                          </a:solidFill>
                          <a:latin typeface="Garamond"/>
                          <a:ea typeface="Arial"/>
                        </a:rPr>
                        <a:t>Noblesse oblige”- an obligation to act with kindness and hon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457200" y="114480"/>
          <a:ext cx="8229600" cy="6743520"/>
        </p:xfrm>
        <a:graphic>
          <a:graphicData uri="http://schemas.openxmlformats.org/drawingml/2006/table">
            <a:tbl>
              <a:tblPr/>
              <a:tblGrid>
                <a:gridCol w="2057400"/>
                <a:gridCol w="2057400"/>
                <a:gridCol w="2057400"/>
                <a:gridCol w="2057400"/>
              </a:tblGrid>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Pover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Middle Cla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Wealt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Languag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Casual, about surviv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Formal, about negoti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Very formal, about network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Family Structu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ypically matriarch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ypically patriarch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Depends who has the mone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World Vie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Loc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Natio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nternation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Driving Forc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Survival, relationships, entertai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Work, achiev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Financial, political, social connec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ea typeface="Arial"/>
                        </a:rPr>
                        <a:t>Hum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About people and se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About situa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About social faux p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Possible problems / values</a:t>
            </a:r>
            <a:br>
              <a:rPr sz="3600"/>
            </a:br>
            <a:r>
              <a:rPr b="0" lang="en-US" sz="3600" spc="-1" strike="noStrike">
                <a:solidFill>
                  <a:srgbClr val="696464"/>
                </a:solidFill>
                <a:latin typeface="Franklin Gothic Book"/>
              </a:rPr>
              <a:t> for each class</a:t>
            </a:r>
            <a:endParaRPr b="0" lang="en-US" sz="3600" spc="-1" strike="noStrike">
              <a:solidFill>
                <a:srgbClr val="696464"/>
              </a:solidFill>
              <a:latin typeface="Franklin Gothic Book"/>
            </a:endParaRPr>
          </a:p>
        </p:txBody>
      </p:sp>
      <p:graphicFrame>
        <p:nvGraphicFramePr>
          <p:cNvPr id="297" name=""/>
          <p:cNvGraphicFramePr/>
          <p:nvPr/>
        </p:nvGraphicFramePr>
        <p:xfrm>
          <a:off x="380880" y="1447920"/>
          <a:ext cx="8458200" cy="4647960"/>
        </p:xfrm>
        <a:graphic>
          <a:graphicData uri="http://schemas.openxmlformats.org/drawingml/2006/table">
            <a:tbl>
              <a:tblPr/>
              <a:tblGrid>
                <a:gridCol w="2114640"/>
                <a:gridCol w="2114640"/>
                <a:gridCol w="2114640"/>
                <a:gridCol w="2114280"/>
              </a:tblGrid>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Upper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Middle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Working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Lower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w SES elementary students are more than twice as likely as their higher SES peers to fall below basic reading levels;  only 1/3 as likely to achieve proficiency, and dropout rates exceed 50%!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nly about 25% of high school graduates from the lower SES families go on to college and earn a degree compared to 80% of graduates from the highest SES classe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ssues related to SES</a:t>
            </a:r>
            <a:endParaRPr b="0" lang="en-US"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90000"/>
          </a:bodyPr>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ulfillment of basic needs (food, shelter, and medical care)</a:t>
            </a:r>
            <a:endParaRPr b="0" lang="en-US" sz="22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amily stability (marital conflict, economic struggles that lead to parental frustration, frequent moving, lack of safety and security, depression)</a:t>
            </a:r>
            <a:endParaRPr b="0" lang="en-US" sz="22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chool related experiences (outside experiences and schema, materials to support learning at home—computers, Internet--, access to books, sporting events and other lessons, etc)</a:t>
            </a:r>
            <a:endParaRPr b="0" lang="en-US" sz="22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arent values and attitudes</a:t>
            </a:r>
            <a:endParaRPr b="0" lang="en-US" sz="22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teraction patterns (verbal development, language learning)</a:t>
            </a:r>
            <a:endParaRPr b="0" lang="en-US" sz="22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xperts estimate that by age 3, children from professional parents have heard 30 million words; children from the working class have heard 20 million; children from welfare have heard 10 million. Higher SES parents have conversations with children and encourage independent thinking. Lower SES parents tend to “tell” rather than explain, directions are less clear, and children are less encouraged to problem solve.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Keep in mind these issues are STEREOTYPES and do not necessary apply to all children and famili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alize also that home conditions DO impact a child significantly and you need to figure out how you will deal with these issu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melessness is another real issue you will possibly face. These children are 3 times more likely to repeat a grade and 4 times more likely to drop ou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ore changes to our students</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47% of high schoolers surveyed consumed alcohol within  30 days  of taking the survey; 13% drove after drinking; 31% rode in a car with someone driving who had been drinking.</a:t>
            </a: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4% used marijuana within the last month; 10% had tried marijuana by age 13. </a:t>
            </a: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9% of males and 6 % of females carried weapons at least one day; 33% were involved in physical fights.</a:t>
            </a: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9% attempted suicide while another 19% seriously contemplated i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eenage pregnancy</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xually Transmitted Diseases</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mosexuality</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xual Harassment</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lcohol</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rugs</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besity</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rimes (committing and victims of)</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iolence</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ullying</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uicide</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ild abuse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anges over the past 30 years</a:t>
            </a:r>
            <a:endParaRPr b="0" lang="en-US" sz="4000" spc="-1" strike="noStrike">
              <a:solidFill>
                <a:srgbClr val="696464"/>
              </a:solidFill>
              <a:latin typeface="Franklin Gothic Book"/>
            </a:endParaRPr>
          </a:p>
        </p:txBody>
      </p:sp>
      <p:sp>
        <p:nvSpPr>
          <p:cNvPr id="274"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ewer married couples leading families (now only 68% compared to 77% in 1980)</a:t>
            </a:r>
            <a:endParaRPr b="0" lang="en-US" sz="2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re moms in the workforce (now 7 out of10)</a:t>
            </a:r>
            <a:endParaRPr b="0" lang="en-US" sz="2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divorce rate quadrupled from 1978 to 2000.</a:t>
            </a:r>
            <a:endParaRPr b="0" lang="en-US" sz="2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3% of children live only with their mothers. 5% live only with their fathers. 4% live with neither. </a:t>
            </a:r>
            <a:endParaRPr b="0" lang="en-US" sz="2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cidence of poverty among single-parent families was between 7 and 8 times higher than in two-parent familie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igns of suicide</a:t>
            </a:r>
            <a:endParaRPr b="0" lang="en-US"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rupt decline in quality of school work</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ithdrawal from friends or classroom / school activit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glect of personal appearance or radical changes in personali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anges in eating and /or sleeping habit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press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ments, writings, or drawings about suicid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igns of Child abuse</a:t>
            </a:r>
            <a:endParaRPr b="0" lang="en-US"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glected appearance</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dden changes in academic and / or social behavior</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ruptive or overly compliant behavior</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peated injuries (bruises, welts, burns, broken bones)</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dden speech changes (stuttering)</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dden changes in personality (sudden shyness, needing to be perfect, etc.)</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dden focus on perfection or fear of making mistak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risk students</a:t>
            </a:r>
            <a:endParaRPr b="0" lang="en-US" sz="4000" spc="-1" strike="noStrike">
              <a:solidFill>
                <a:srgbClr val="696464"/>
              </a:solidFill>
              <a:latin typeface="Franklin Gothic Book"/>
            </a:endParaRPr>
          </a:p>
        </p:txBody>
      </p:sp>
      <p:graphicFrame>
        <p:nvGraphicFramePr>
          <p:cNvPr id="313" name=""/>
          <p:cNvGraphicFramePr/>
          <p:nvPr/>
        </p:nvGraphicFramePr>
        <p:xfrm>
          <a:off x="914400" y="1447920"/>
          <a:ext cx="7772400" cy="5190840"/>
        </p:xfrm>
        <a:graphic>
          <a:graphicData uri="http://schemas.openxmlformats.org/drawingml/2006/table">
            <a:tbl>
              <a:tblPr/>
              <a:tblGrid>
                <a:gridCol w="3886200"/>
                <a:gridCol w="3886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Background fac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Education probl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High dropout r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Inner 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gr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Trans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Retention in a grade (or multiple reten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Mino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achie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Non-native English speak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participation in extra curriculu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Divorced fami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motiv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Retention in a gr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Poor attend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High rate of drug 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Misbehavior in cl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self este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ow standardized test sco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Lack of interest in sch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High suspension r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ssues that effect your students</a:t>
            </a:r>
            <a:endParaRPr b="0" lang="en-US" sz="4000" spc="-1" strike="noStrike">
              <a:solidFill>
                <a:srgbClr val="696464"/>
              </a:solidFill>
              <a:latin typeface="Franklin Gothic Book"/>
            </a:endParaRPr>
          </a:p>
        </p:txBody>
      </p:sp>
      <p:sp>
        <p:nvSpPr>
          <p:cNvPr id="276" name=""/>
          <p:cNvSpPr txBox="1"/>
          <p:nvPr/>
        </p:nvSpPr>
        <p:spPr>
          <a:xfrm>
            <a:off x="914400" y="1447920"/>
            <a:ext cx="777240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ild care: </a:t>
            </a:r>
            <a:endParaRPr b="0" lang="en-US" sz="2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ality child care is and has always been a problem. High quality child care contributes to children’s long-term cognitive and emotional development, lower levels of delinquency, lower teenage pregnancy rates, less drug use, and reduces dropout rates. </a:t>
            </a: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ality child care is even MORE important for children of poverty. Only 47% of children from poor families attend preschool or early childhood education programs (compared to 60% of children from middle class families). </a:t>
            </a:r>
            <a:endParaRPr b="0" lang="en-US" sz="2400" spc="-1" strike="noStrike">
              <a:solidFill>
                <a:srgbClr val="000000"/>
              </a:solidFill>
              <a:latin typeface="Perpetua"/>
            </a:endParaRPr>
          </a:p>
          <a:p>
            <a:pPr lvl="2" marL="764640" indent="-2124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ost and availability are issues</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tchkey children- children who go home to empty houses / apartments and stay alone until parents return home from work.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pproximately 4 to 5 million childre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ssues include child safety, questions about supervision, significant time spent watching television, lack of homework, higher rates of obesity.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ustody issue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 can issues of shared custody impact children in school?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 can you as a teacher help?</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ocioeconomic Status</a:t>
            </a:r>
            <a:endParaRPr b="0" lang="en-US" sz="40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S is a combination of family income, parent occupations, and the level of parental education.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et’s look at the table on page 74.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2008 HHS Poverty Guidelines</a:t>
            </a:r>
            <a:endParaRPr b="0" lang="en-US" sz="4000" spc="-1" strike="noStrike">
              <a:solidFill>
                <a:srgbClr val="696464"/>
              </a:solidFill>
              <a:latin typeface="Franklin Gothic Book"/>
            </a:endParaRPr>
          </a:p>
        </p:txBody>
      </p:sp>
      <p:graphicFrame>
        <p:nvGraphicFramePr>
          <p:cNvPr id="284" name=""/>
          <p:cNvGraphicFramePr/>
          <p:nvPr/>
        </p:nvGraphicFramePr>
        <p:xfrm>
          <a:off x="609480" y="1219320"/>
          <a:ext cx="7772400" cy="4724280"/>
        </p:xfrm>
        <a:graphic>
          <a:graphicData uri="http://schemas.openxmlformats.org/drawingml/2006/table">
            <a:tbl>
              <a:tblPr/>
              <a:tblGrid>
                <a:gridCol w="3191040"/>
                <a:gridCol w="2198520"/>
                <a:gridCol w="1190880"/>
                <a:gridCol w="1191960"/>
              </a:tblGrid>
              <a:tr h="701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34817"/>
                          </a:solidFill>
                          <a:latin typeface="Verdana"/>
                          <a:ea typeface="Times New Roman"/>
                        </a:rPr>
                        <a:t>Persons</a:t>
                      </a:r>
                      <a:br>
                        <a:rPr sz="1600"/>
                      </a:br>
                      <a:r>
                        <a:rPr b="1" lang="en-US" sz="1600" spc="-1" strike="noStrike">
                          <a:solidFill>
                            <a:srgbClr val="d34817"/>
                          </a:solidFill>
                          <a:latin typeface="Verdana"/>
                          <a:ea typeface="Times New Roman"/>
                        </a:rPr>
                        <a:t>in Family or Household</a:t>
                      </a:r>
                      <a:endParaRPr b="0" lang="en-US" sz="16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34817"/>
                          </a:solidFill>
                          <a:latin typeface="Verdana"/>
                          <a:ea typeface="Times New Roman"/>
                        </a:rPr>
                        <a:t>48 Contiguous</a:t>
                      </a:r>
                      <a:br>
                        <a:rPr sz="1600"/>
                      </a:br>
                      <a:r>
                        <a:rPr b="1" lang="en-US" sz="1600" spc="-1" strike="noStrike">
                          <a:solidFill>
                            <a:srgbClr val="d34817"/>
                          </a:solidFill>
                          <a:latin typeface="Verdana"/>
                          <a:ea typeface="Times New Roman"/>
                        </a:rPr>
                        <a:t>States and D.C.</a:t>
                      </a:r>
                      <a:endParaRPr b="0" lang="en-US" sz="16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34817"/>
                          </a:solidFill>
                          <a:latin typeface="Verdana"/>
                          <a:ea typeface="Times New Roman"/>
                        </a:rPr>
                        <a:t>Alaska</a:t>
                      </a:r>
                      <a:endParaRPr b="0" lang="en-US" sz="16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34817"/>
                          </a:solidFill>
                          <a:latin typeface="Verdana"/>
                          <a:ea typeface="Times New Roman"/>
                        </a:rPr>
                        <a:t>Hawaii</a:t>
                      </a:r>
                      <a:endParaRPr b="0" lang="en-US" sz="16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0,4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3,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1,96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4,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7,5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6,1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17,6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2,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0,24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4</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1,2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6,5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4,38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12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5</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4,8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1,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8,52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6</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28,4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5,5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2,66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22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7</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2,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40,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6,8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1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8</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5,6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44,5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40,94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1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For each additional</a:t>
                      </a:r>
                      <a:br>
                        <a:rPr sz="1600"/>
                      </a:br>
                      <a:r>
                        <a:rPr b="0" lang="en-US" sz="1600" spc="-1" strike="noStrike">
                          <a:solidFill>
                            <a:srgbClr val="d34817"/>
                          </a:solidFill>
                          <a:latin typeface="Verdana"/>
                          <a:ea typeface="Times New Roman"/>
                        </a:rPr>
                        <a:t>person, add</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3,6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4,5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Verdana"/>
                          <a:ea typeface="Times New Roman"/>
                        </a:rPr>
                        <a:t>4,14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85" name="Rectangle 593"/>
          <p:cNvSpPr/>
          <p:nvPr/>
        </p:nvSpPr>
        <p:spPr>
          <a:xfrm>
            <a:off x="1468080" y="6171120"/>
            <a:ext cx="6415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OURCE:</a:t>
            </a:r>
            <a:r>
              <a:rPr b="0" lang="en-US" sz="1400" spc="-1" strike="noStrike">
                <a:solidFill>
                  <a:srgbClr val="000000"/>
                </a:solidFill>
                <a:latin typeface="Verdana"/>
                <a:ea typeface="Times New Roman"/>
              </a:rPr>
              <a:t>  </a:t>
            </a:r>
            <a:r>
              <a:rPr b="0" i="1" lang="en-US" sz="1400" spc="-1" strike="noStrike">
                <a:solidFill>
                  <a:srgbClr val="000000"/>
                </a:solidFill>
                <a:latin typeface="Verdana"/>
                <a:ea typeface="Times New Roman"/>
              </a:rPr>
              <a:t>Federal Register</a:t>
            </a:r>
            <a:r>
              <a:rPr b="0" lang="en-US" sz="1400" spc="-1" strike="noStrike">
                <a:solidFill>
                  <a:srgbClr val="000000"/>
                </a:solidFill>
                <a:latin typeface="Verdana"/>
                <a:ea typeface="Times New Roman"/>
              </a:rPr>
              <a:t>, Vol. 73, No. 15, January 23, 2008, pp. 3971–3972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overty</a:t>
            </a:r>
            <a:r>
              <a:rPr b="0" lang="en-US" sz="4000" spc="-1" strike="noStrike">
                <a:solidFill>
                  <a:srgbClr val="696464"/>
                </a:solidFill>
                <a:latin typeface="Franklin Gothic Book"/>
              </a:rPr>
              <a:t>	</a:t>
            </a:r>
            <a:r>
              <a:rPr b="0" lang="en-US" sz="4000" spc="-1" strike="noStrike">
                <a:solidFill>
                  <a:srgbClr val="696464"/>
                </a:solidFill>
                <a:latin typeface="Franklin Gothic Book"/>
              </a:rPr>
              <a:t>-- Ruby Payne</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Poverty” is not just financi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n also be </a:t>
            </a:r>
            <a:r>
              <a:rPr b="0" lang="en-US" sz="2600" spc="-1" strike="noStrike" u="sng">
                <a:solidFill>
                  <a:srgbClr val="000000"/>
                </a:solidFill>
                <a:uFillTx/>
                <a:latin typeface="Perpetua"/>
              </a:rPr>
              <a:t>emotional</a:t>
            </a:r>
            <a:r>
              <a:rPr b="0" lang="en-US" sz="2600" spc="-1" strike="noStrike">
                <a:solidFill>
                  <a:srgbClr val="000000"/>
                </a:solidFill>
                <a:latin typeface="Perpetua"/>
              </a:rPr>
              <a:t> (unable to control emotional responses, lack of emotional suppor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Perpetua"/>
              </a:rPr>
              <a:t>Mental</a:t>
            </a:r>
            <a:r>
              <a:rPr b="0" lang="en-US" sz="2600" spc="-1" strike="noStrike">
                <a:solidFill>
                  <a:srgbClr val="000000"/>
                </a:solidFill>
                <a:latin typeface="Perpetua"/>
              </a:rPr>
              <a:t> (lack of mental abilities to deal with daily lif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Perpetua"/>
              </a:rPr>
              <a:t>Spiritual (</a:t>
            </a:r>
            <a:r>
              <a:rPr b="0" lang="en-US" sz="2600" spc="-1" strike="noStrike">
                <a:solidFill>
                  <a:srgbClr val="000000"/>
                </a:solidFill>
                <a:latin typeface="Perpetua"/>
              </a:rPr>
              <a:t>no or lack of belief in divine purpose or guida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Perpetua"/>
              </a:rPr>
              <a:t>Physical </a:t>
            </a:r>
            <a:r>
              <a:rPr b="0" lang="en-US" sz="2600" spc="-1" strike="noStrike">
                <a:solidFill>
                  <a:srgbClr val="000000"/>
                </a:solidFill>
                <a:latin typeface="Perpetua"/>
              </a:rPr>
              <a:t>(lack of health and mobility)</a:t>
            </a:r>
            <a:endParaRPr b="0" lang="en-US" sz="26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Perpetua"/>
              </a:rPr>
              <a:t>Support Systems</a:t>
            </a:r>
            <a:r>
              <a:rPr b="0" lang="en-US" sz="2600" spc="-1" strike="noStrike">
                <a:solidFill>
                  <a:srgbClr val="000000"/>
                </a:solidFill>
                <a:latin typeface="Perpetua"/>
              </a:rPr>
              <a:t>- lack of friends, family, or back up resources in times of ne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Perpetua"/>
              </a:rPr>
              <a:t>Relationships or role models</a:t>
            </a:r>
            <a:r>
              <a:rPr b="0" lang="en-US" sz="2600" spc="-1" strike="noStrike">
                <a:solidFill>
                  <a:srgbClr val="000000"/>
                </a:solidFill>
                <a:latin typeface="Perpetua"/>
              </a:rPr>
              <a:t>- lack of nurturing– often leads to self destructive behavio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Perpetua"/>
              </a:rPr>
              <a:t>Knowledge of hidden rules</a:t>
            </a:r>
            <a:r>
              <a:rPr b="0" lang="en-US" sz="2600" spc="-1" strike="noStrike">
                <a:solidFill>
                  <a:srgbClr val="000000"/>
                </a:solidFill>
                <a:latin typeface="Perpetua"/>
              </a:rPr>
              <a:t>- unspoken cues and habits of group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02:14:45Z</dcterms:created>
  <dc:creator>Amy</dc:creator>
  <dc:description/>
  <dc:language>en-US</dc:language>
  <cp:lastModifiedBy>FUNTIMES</cp:lastModifiedBy>
  <dcterms:modified xsi:type="dcterms:W3CDTF">2011-10-26T23:30:59Z</dcterms:modified>
  <cp:revision>3</cp:revision>
  <dc:subject/>
  <dc:title>Chapter 4 Changes in American Society: Their Influences on Today's Schools</dc:title>
</cp:coreProperties>
</file>